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7AB-C645-4A53-A291-C0C2F506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5BD-8026-4A70-9D22-CF63185D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F45-0005-4BDA-8D54-33EC005C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E72-FEC9-4761-A3F1-F3E2D7FF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EB4-2981-4CFE-A829-95D7C9EB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45E-BA7D-4791-AB2F-E986EB08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393-7D2B-46D3-B087-CB094F71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ECF-C303-4AFE-B5C1-F8B48F05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A6A-B9B4-4165-9B93-7A133081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AFE-0FCA-4375-A3F2-14F1532A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737-3EDD-4148-96EC-EE07B2FF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766-8577-4316-BC3E-9133FB2C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E707-8A23-4EE5-8B31-EAF6BFC51CE2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8064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 any given day we can play many different roles in society – eg. A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parent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can drive their kids to school and then go to work and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each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ir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ules, Norms and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Values – Society carries with it a system of values.  A particular set of values are assigned to each role.  The practitioners of these roles are expected to accept and internalize these valu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Norms – These are rules set out for a particular role that are considered standard behaviour (eg. Catholic Priests are expected to be celibat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ules, Norms and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ules – These are developed by cultures based on their system of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ev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y behaviour that is different from the societal norm.  It is deviant because we, as a society, do not accept i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iance can range from simple eccentricities to behaviour that harms society or is considered disreput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habili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ology has formed a strong link with the justice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fundamental component of modern imprisonment is rehabilitation, or trying to re-educate and resocialize inmates so that they can grow to accept society’s values and n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921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176040"/>
            <a:ext cx="975348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042920" y="351000"/>
            <a:ext cx="6831000" cy="59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775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is Sociolog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ocial science discipline that looks at the development and structure of human society (institutions) and 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ology is the study of social life, social change, and the social causes and consequences of human behaviour. (American Sociological Associatio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ology Subject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ociologists investigate the structure of groups, organizations, and societies, and how people interact within these contex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ll human behavior is social so the subject matter of sociology ranges from the intimate family to the hostile mob; from organized crime to religious cults; from the divisions of race, gender and social class to the shared beliefs of a common culture; and from the sociology of work to the sociology of sports. (AS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he Roles we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e all play certain roles in our society – Social Scientists refer to this as 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stat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tatus is the term used to describe our position within an institu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g. Fellowes High School – There are many positions at Fellowes ranging from teacher, vice-principal, guidance counselor, principal, student and superintendent – 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Can you put them in order on the hierarc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Hierarchy is the ranking system used in any particular environment based on authority ot pow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ach position or role requires a certain type of expertise which is valued by societ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n order to distinguish between these roles people are expected to dress and act in a certain wa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43:34Z</dcterms:created>
  <dc:creator>Jason</dc:creator>
  <dc:description/>
  <dc:language>en-US</dc:language>
  <cp:lastModifiedBy>Jason</cp:lastModifiedBy>
  <dcterms:modified xsi:type="dcterms:W3CDTF">2010-09-15T16:30:55Z</dcterms:modified>
  <cp:revision>5</cp:revision>
  <dc:subject/>
  <dc:title>Sociology</dc:title>
</cp:coreProperties>
</file>